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EA8-0ACF-4318-9D50-41AE16DF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513-9DFA-4B96-8E9A-6B463289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D68-1783-47BA-96C2-3B2A8E24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0A3-7B15-4B32-95A3-9C961743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E3A-108E-41B9-B6FE-3C27A2EC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F1B-CA05-4643-B13C-5BC0D6FA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0C2E-D9F3-4BEB-AB1E-7356D4A2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669-0067-4B25-8355-20E3BA8D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3AA-D500-47D8-89FE-DD03F69B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C36-1AFE-4118-B59E-1F152682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650-7125-44F3-9BE8-02867018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1AA9-BAE5-4E5A-806C-BF857C73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16B9-0A1C-4653-A855-E3541FA7A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youtube.com/watch?v=JPZ_DkR4aZ4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nsu.edu/emuseum/prehistory/china/early_imperial_china/han.html" TargetMode="External"/><Relationship Id="rId2" Type="http://schemas.openxmlformats.org/officeDocument/2006/relationships/hyperlink" Target="http://www.travelchinaguide.com/intro/history/han/western.htm" TargetMode="External"/><Relationship Id="rId3" Type="http://schemas.openxmlformats.org/officeDocument/2006/relationships/hyperlink" Target="http://edgarlowen.com/b4423.jpg" TargetMode="External"/><Relationship Id="rId4" Type="http://schemas.openxmlformats.org/officeDocument/2006/relationships/hyperlink" Target="http://history.cultural-china.com/chinaWH/upload/upfiles/2009-05/13/weapons_of_the_qin_and_han_dynasties6a9ed81cede0b1e4cc7f.jpg" TargetMode="External"/><Relationship Id="rId5" Type="http://schemas.openxmlformats.org/officeDocument/2006/relationships/hyperlink" Target="http://asiasociety.org/files/800px-Silk_Route_extant.JPG" TargetMode="External"/><Relationship Id="rId6" Type="http://schemas.openxmlformats.org/officeDocument/2006/relationships/hyperlink" Target="http://www.historyforkids.org/learn/china/history/stoneage.htm" TargetMode="External"/><Relationship Id="rId7" Type="http://schemas.openxmlformats.org/officeDocument/2006/relationships/hyperlink" Target="http://www.nadeausauction.com/auctiondata/109179/images/14.0.jpg" TargetMode="External"/><Relationship Id="rId8" Type="http://schemas.openxmlformats.org/officeDocument/2006/relationships/hyperlink" Target="http://www.jamb.ca/gallery/albums/Georgia/watermill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d/Da-ming-hun-yi-tu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388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n Dynas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2 B.C.E-221 C.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ci Hastings &amp; Jamie Ly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lyverj298\My Documents\My Pictures\Gentlemen_in_conversation,_Eastern_Han_Dynasty.jpg"/>
          <p:cNvPicPr/>
          <p:nvPr/>
        </p:nvPicPr>
        <p:blipFill>
          <a:blip r:embed="rId2"/>
          <a:stretch/>
        </p:blipFill>
        <p:spPr>
          <a:xfrm>
            <a:off x="2411280" y="4149720"/>
            <a:ext cx="4065840" cy="2467080"/>
          </a:xfrm>
          <a:prstGeom prst="rect">
            <a:avLst/>
          </a:prstGeom>
          <a:ln w="69840">
            <a:solidFill>
              <a:srgbClr val="a90b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000" y="1125360"/>
            <a:ext cx="49784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entral 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emperor was Liu Ba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ed by a grand counc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www.aboutchina.info/wp-content/uploads/2010/06/IMAG1230001894720860.jpg"/>
          <p:cNvPicPr/>
          <p:nvPr/>
        </p:nvPicPr>
        <p:blipFill>
          <a:blip r:embed="rId1"/>
          <a:stretch/>
        </p:blipFill>
        <p:spPr>
          <a:xfrm>
            <a:off x="2987640" y="3429000"/>
            <a:ext cx="2519280" cy="3024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4932360" y="1989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c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into prov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Philosoph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ntegration of Confucianism and Legal practices was created rapi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is system was known as State Confucianism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ideology of Confucianism was applied to the government and the leaders were chosen by character over bi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413000"/>
            <a:ext cx="536400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ismograph made in 132 C.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to predict earthquakes and the movement of the ear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iron balls sit in the mouth of the dragons and when it senses earth movements it drops into the frogs mouth, then measurements can be t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lyverj298\My Documents\My Pictures\images.jpg"/>
          <p:cNvPicPr/>
          <p:nvPr/>
        </p:nvPicPr>
        <p:blipFill>
          <a:blip r:embed="rId1"/>
          <a:stretch/>
        </p:blipFill>
        <p:spPr>
          <a:xfrm>
            <a:off x="611280" y="4653000"/>
            <a:ext cx="4248000" cy="2012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5724360" y="1557360"/>
            <a:ext cx="29512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seeking compass   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youtube.com/watch?v=JPZ_DkR4aZ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http://www.aspects.net/~janus/Han_Dynasty_compass.jpg"/>
          <p:cNvPicPr/>
          <p:nvPr/>
        </p:nvPicPr>
        <p:blipFill>
          <a:blip r:embed="rId3"/>
          <a:stretch/>
        </p:blipFill>
        <p:spPr>
          <a:xfrm>
            <a:off x="5435640" y="4005360"/>
            <a:ext cx="33037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000" y="1599840"/>
            <a:ext cx="8218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tual Sacrifices , animals and food to deities and spir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believed that each person was a two part soul, the spirit soul (Hun) and the body soul (P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eror acted as the highest pri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ities were known as the Five Po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believed that if the emperor did not behave according to ritual he could disrupt the balance and cause earthquakes, flood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ligion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ved that immortality could be achieved by performing breathing exercises, sexual techniques and medical elix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one lived in harmony through “yin and yang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rse was a very spiritual 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an invented paper, lead glazed ceramics and had complex ways of silk weav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ulptures and small figur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rt work and inscriptions have been found on the side of tom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rr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 storied buil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different designs of rooft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ck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stic courtyards were m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nsu.edu/emuseum/prehistory/china/early_imperial_china/han.htm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ravelchinaguide.com/intro/history/han/western.ht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dgarlowen.com/b4423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ues. 28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istory.cultural-china.com/chinaWH/upload/upfiles/2009-05/13/weapons_of_the_qin_and_han_dynasties6a9ed81cede0b1e4cc7f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siasociety.org/files/800px-Silk_Route_extant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historyforkids.org/learn/china/history/stoneage.ht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Wed. 29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ld history fourth edition text boo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nadeausauction.com/auctiondata/109179/images/14.0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www.jamb.ca/gallery/albums/Georgia/watermill.jpg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n.wikipedia.org/wiki/Han_Dynasty#Social_class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arthobservatory.nasa.gov/Features/GlobalLandSurvey/images/rice_paddy.jpg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mitchellteachers.net/WorldHistory/AncientChinaCurriculum/Transparencies/HansTransMerchants.jpg  Thurs. 30 Sept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"Han Dynasty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hina Window - China's Home on the We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Web. 01 Oct. 2010. &lt;http://www.china-window.com/china_briefing/china_history/chinese-historyhan-dynast.shtml&gt;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"Geography."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cient China - The British Museu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Web. 01 Oct. 2010. &lt;http://www.ancientchina.co.uk/geography/home_set.html&gt;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en.wikipedia.org/wiki/Society_and_culture_of_the_Han_Dynasty#Slaves Sunday, Oct. 3.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Han_Dynasty_Map.jpg"/>
          <p:cNvPicPr/>
          <p:nvPr/>
        </p:nvPicPr>
        <p:blipFill>
          <a:blip r:embed="rId1"/>
          <a:stretch/>
        </p:blipFill>
        <p:spPr>
          <a:xfrm>
            <a:off x="784080" y="1600200"/>
            <a:ext cx="757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635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08720" y="765000"/>
            <a:ext cx="3178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e west, Himalay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ellow and Yangzi R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crop was 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flooding of 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File:Da-ming-hun-yi-tu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6520" y="2060640"/>
            <a:ext cx="44258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20" y="155736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trade with central and southeast 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rther to India and Mediterran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ency and coin minting grew significa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k r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ers had sal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asiasociety.org/files/800px-Silk_Route_extant.JPG"/>
          <p:cNvPicPr/>
          <p:nvPr/>
        </p:nvPicPr>
        <p:blipFill>
          <a:blip r:embed="rId1"/>
          <a:stretch/>
        </p:blipFill>
        <p:spPr>
          <a:xfrm>
            <a:off x="4643280" y="2060640"/>
            <a:ext cx="4202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llected ta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jor trad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d weapons, operated shipyards, granaries and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history.cultural-china.com/chinaWH/upload/upfiles/2009-05/13/weapons_of_the_qin_and_han_dynasties6a9ed81cede0b1e4cc7f.jpg"/>
          <p:cNvPicPr/>
          <p:nvPr/>
        </p:nvPicPr>
        <p:blipFill>
          <a:blip r:embed="rId2"/>
          <a:stretch/>
        </p:blipFill>
        <p:spPr>
          <a:xfrm>
            <a:off x="1187280" y="4005360"/>
            <a:ext cx="278784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edgarlowen.com/b4423.jpg"/>
          <p:cNvPicPr/>
          <p:nvPr/>
        </p:nvPicPr>
        <p:blipFill>
          <a:blip r:embed="rId3"/>
          <a:stretch/>
        </p:blipFill>
        <p:spPr>
          <a:xfrm>
            <a:off x="6012000" y="3429000"/>
            <a:ext cx="2187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conomic acheiv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xtile manufactu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m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on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Mi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overnmen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www.jamb.ca/gallery/albums/Georgia/watermill.jpg"/>
          <p:cNvPicPr/>
          <p:nvPr/>
        </p:nvPicPr>
        <p:blipFill>
          <a:blip r:embed="rId1"/>
          <a:stretch/>
        </p:blipFill>
        <p:spPr>
          <a:xfrm>
            <a:off x="5292720" y="11970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www.nadeausauction.com/auctiondata/109179/images/14.0.jpg"/>
          <p:cNvPicPr/>
          <p:nvPr/>
        </p:nvPicPr>
        <p:blipFill>
          <a:blip r:embed="rId2"/>
          <a:stretch/>
        </p:blipFill>
        <p:spPr>
          <a:xfrm>
            <a:off x="3851280" y="4076640"/>
            <a:ext cx="4826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and G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rchants  had severe constr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asants became ten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were taxed to the st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erarchy(with Emperor at the to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i Ba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arthobservatory.nasa.gov/Features/GlobalLandSurvey/images/rice_paddy.jpg"/>
          <p:cNvPicPr/>
          <p:nvPr/>
        </p:nvPicPr>
        <p:blipFill>
          <a:blip r:embed="rId2"/>
          <a:stretch/>
        </p:blipFill>
        <p:spPr>
          <a:xfrm>
            <a:off x="4427640" y="4365720"/>
            <a:ext cx="3870360" cy="1935000"/>
          </a:xfrm>
          <a:prstGeom prst="rect">
            <a:avLst/>
          </a:prstGeom>
          <a:ln w="41400">
            <a:solidFill>
              <a:srgbClr val="000000"/>
            </a:solidFill>
            <a:miter/>
          </a:ln>
        </p:spPr>
      </p:pic>
      <p:pic>
        <p:nvPicPr>
          <p:cNvPr id="63" name="Picture 4" descr="http://www.mitchellteachers.net/WorldHistory/AncientChinaCurriculum/Transparencies/HansTransMerchants.jpg"/>
          <p:cNvPicPr/>
          <p:nvPr/>
        </p:nvPicPr>
        <p:blipFill>
          <a:blip r:embed="rId3"/>
          <a:stretch/>
        </p:blipFill>
        <p:spPr>
          <a:xfrm>
            <a:off x="4572000" y="1341360"/>
            <a:ext cx="3600360" cy="2633760"/>
          </a:xfrm>
          <a:prstGeom prst="rect">
            <a:avLst/>
          </a:prstGeom>
          <a:ln w="47520">
            <a:solidFill>
              <a:srgbClr val="59595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der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360" y="1628280"/>
            <a:ext cx="3456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ves did not have the same treatment as 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images.stanzapub.com/readers/socyberty/2008/08/10/261881_14.jpg"/>
          <p:cNvPicPr/>
          <p:nvPr/>
        </p:nvPicPr>
        <p:blipFill>
          <a:blip r:embed="rId1"/>
          <a:stretch/>
        </p:blipFill>
        <p:spPr>
          <a:xfrm>
            <a:off x="4356000" y="1557360"/>
            <a:ext cx="3672000" cy="22510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00720" y="429264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en were to Ob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ed at home and did hous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ed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http://arts.cultural-china.com/chinaWH/upload/upfiles/2009-05/26/women_in_chinese_painting853f64ac2f1acdd33f71.jpg"/>
          <p:cNvPicPr/>
          <p:nvPr/>
        </p:nvPicPr>
        <p:blipFill>
          <a:blip r:embed="rId2"/>
          <a:stretch/>
        </p:blipFill>
        <p:spPr>
          <a:xfrm>
            <a:off x="568440" y="3633840"/>
            <a:ext cx="328284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laves of H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560" y="1600200"/>
            <a:ext cx="44038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ughly 1% of pop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ly owned &amp; owned by the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vate/ worked domestic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owned/worked fo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tom of hierarch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www.mitchellteachers.net/WorldHistory/AncientChinaCurriculum/Transparencies/HansTransSlaves.jpg"/>
          <p:cNvPicPr/>
          <p:nvPr/>
        </p:nvPicPr>
        <p:blipFill>
          <a:blip r:embed="rId1"/>
          <a:stretch/>
        </p:blipFill>
        <p:spPr>
          <a:xfrm>
            <a:off x="3995640" y="2060640"/>
            <a:ext cx="48960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9:09:06Z</dcterms:created>
  <dc:creator>Red Deer Public Schools</dc:creator>
  <dc:description/>
  <dc:language>en-US</dc:language>
  <cp:lastModifiedBy>Red Deer Public Teacher</cp:lastModifiedBy>
  <dcterms:modified xsi:type="dcterms:W3CDTF">2010-10-07T18:40:01Z</dcterms:modified>
  <cp:revision>11</cp:revision>
  <dc:subject/>
  <dc:title>Han Dynasty 202 B.C.E-221 C.E</dc:title>
</cp:coreProperties>
</file>